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0EA-C52A-4BA0-8B8C-DA332A9F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970-F487-428F-9A66-FCDFA017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8F2-1078-4A04-AB28-7144B336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D2F-7323-4F46-ADEA-355B4731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1824-AC8D-464D-96EB-DAA9AB15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DE31-29B4-4358-965A-88C77BC9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E457-426C-436B-8ED4-C818CB3F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8BA0-3CCF-45F3-A204-59A5BA19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0F26-83D9-44D6-BFE9-432CBB03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18C4-5E67-481D-ABDD-AD0E22AD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3A66-4397-4749-9B26-ED906B25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AAE-392D-4E15-80B6-2F0E1598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9BFB-6B85-4DBB-8EC9-933BB9AB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8316-1F37-4B42-9B11-C2E13B48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B16F-2829-4F76-8A26-93455525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0D7C-F3A2-4423-8ACF-A3B468BA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A352-A8F2-4317-B3A4-5C0381F7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AFE-C58C-4AC8-8B40-914BC16E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FFE-0769-47DB-A7B9-903B0168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4E4-48A1-44CC-B1DA-A548DF9E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F5C-27CE-44F8-AB36-E647BD9D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7E6-ED4A-4FD7-A0E7-20641851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7A2-EAEF-4163-8A05-90E239E6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682-E819-40BB-83E4-387BBF4F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FD8167-4A73-40DB-A913-DA66CAFA2705}" type="slidenum">
              <a:rPr b="0" lang="en-C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131B11-6FB7-444E-BB14-B46FBCC3DDC6}" type="slidenum">
              <a:rPr b="0" lang="en-C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9600" spc="-1" strike="noStrike">
                <a:solidFill>
                  <a:srgbClr val="10243e"/>
                </a:solidFill>
                <a:latin typeface="Calibri"/>
              </a:rPr>
              <a:t>KIJIJ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Canada’s #1 Free Online Classifie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3200040" cy="37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thinking.jpg"/>
          <p:cNvPicPr/>
          <p:nvPr/>
        </p:nvPicPr>
        <p:blipFill>
          <a:blip r:embed="rId1"/>
          <a:stretch/>
        </p:blipFill>
        <p:spPr>
          <a:xfrm>
            <a:off x="4267080" y="2362320"/>
            <a:ext cx="4420440" cy="28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809520" cy="37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What is Kijij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Past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Purpose and G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ommunity.jpg"/>
          <p:cNvPicPr/>
          <p:nvPr/>
        </p:nvPicPr>
        <p:blipFill>
          <a:blip r:embed="rId1"/>
          <a:stretch/>
        </p:blipFill>
        <p:spPr>
          <a:xfrm>
            <a:off x="4495680" y="224784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43400" y="2057400"/>
            <a:ext cx="4495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Cost of memb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reedom of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arge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Wid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User frien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No Cost.jpg"/>
          <p:cNvPicPr/>
          <p:nvPr/>
        </p:nvPicPr>
        <p:blipFill>
          <a:blip r:embed="rId1"/>
          <a:stretch/>
        </p:blipFill>
        <p:spPr>
          <a:xfrm>
            <a:off x="914400" y="2590920"/>
            <a:ext cx="260388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ack of personal interaction between administrators an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alse advert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Security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rau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CreditCardFraud.jpg"/>
          <p:cNvPicPr/>
          <p:nvPr/>
        </p:nvPicPr>
        <p:blipFill>
          <a:blip r:embed="rId1"/>
          <a:stretch/>
        </p:blipFill>
        <p:spPr>
          <a:xfrm>
            <a:off x="4800600" y="3581280"/>
            <a:ext cx="3501000" cy="26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29718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Verification off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ocal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Encourage different payment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Other safety t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bbq.jpg"/>
          <p:cNvPicPr/>
          <p:nvPr/>
        </p:nvPicPr>
        <p:blipFill>
          <a:blip r:embed="rId1"/>
          <a:stretch/>
        </p:blipFill>
        <p:spPr>
          <a:xfrm>
            <a:off x="5791320" y="1621080"/>
            <a:ext cx="2504160" cy="226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Reason for exis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Diverse selection of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Security comprom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ollow safety ti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Convenience outweighs the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balance-scale.jpg"/>
          <p:cNvPicPr/>
          <p:nvPr/>
        </p:nvPicPr>
        <p:blipFill>
          <a:blip r:embed="rId1"/>
          <a:stretch/>
        </p:blipFill>
        <p:spPr>
          <a:xfrm>
            <a:off x="6705720" y="2133720"/>
            <a:ext cx="1828440" cy="12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133720" y="2514600"/>
            <a:ext cx="518112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21"/>
              </a:spcBef>
              <a:buNone/>
              <a:tabLst>
                <a:tab algn="l" pos="0"/>
              </a:tabLst>
            </a:pPr>
            <a:r>
              <a:rPr b="0" lang="en-CA" sz="8600" spc="-1" strike="noStrike">
                <a:solidFill>
                  <a:srgbClr val="d9d9d9"/>
                </a:solidFill>
                <a:latin typeface="Calibri"/>
              </a:rPr>
              <a:t>Thank You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  <Words>88</Words>
  <Paragraphs>42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43:03Z</dcterms:created>
  <dc:creator>Brett</dc:creator>
  <dc:description/>
  <dc:language>en-US</dc:language>
  <cp:lastModifiedBy>Michelle Mah</cp:lastModifiedBy>
  <dcterms:modified xsi:type="dcterms:W3CDTF">2008-11-26T22:07:39Z</dcterms:modified>
  <cp:revision>12</cp:revision>
  <dc:subject/>
  <dc:title>KIJIJ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